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A967-146D-4527-8026-325C93BDD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5695-C160-43B2-A334-5D0EB084A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29C4-A6CD-46F0-8DFC-E46EA74DE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EA94-A2A4-4921-86F9-9E3359AD6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C528-0F0E-4D56-ABB5-6B5886C91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EE2D-D3A0-4B11-B49A-E4FBC3B49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A152-25A4-4F39-AC08-7DB1D1B36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4038-1A5C-47AA-BD1B-0E82DAC48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B43F-18A8-40BD-A65C-F960EAE9D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FE59-3687-476E-A81E-1EC91EB1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0859-99D9-4CBD-BA9F-5333097B9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4759-0B75-49A1-AA69-6EC69FDB9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622BF-18C6-49A4-8E0B-3ECF00D8163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187280" y="692280"/>
            <a:ext cx="7201080" cy="53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IMPLE</a:t>
            </a:r>
            <a:endParaRPr b="1" lang="en-US" sz="6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AST</a:t>
            </a:r>
            <a:endParaRPr b="1" lang="en-US" sz="6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1514520" y="2119320"/>
            <a:ext cx="611496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1163520" y="1309680"/>
            <a:ext cx="681840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1101600" y="1681200"/>
            <a:ext cx="694224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1082520" y="1633680"/>
            <a:ext cx="6980400" cy="35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600"/>
            </a:gs>
            <a:gs pos="50000">
              <a:srgbClr val="00ff00"/>
            </a:gs>
            <a:gs pos="100000">
              <a:srgbClr val="007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WordArt 5"/>
          <p:cNvSpPr txBox="1"/>
          <p:nvPr/>
        </p:nvSpPr>
        <p:spPr>
          <a:xfrm>
            <a:off x="1833480" y="1341360"/>
            <a:ext cx="5762880" cy="48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IRREGULAR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VERBS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1476360" y="1519200"/>
            <a:ext cx="619128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1249200" y="1733400"/>
            <a:ext cx="6647040" cy="33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1368360" y="1557360"/>
            <a:ext cx="64087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1209600" y="1538280"/>
            <a:ext cx="672624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062000" y="1552680"/>
            <a:ext cx="702144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258920" y="757080"/>
            <a:ext cx="6842160" cy="551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020600" y="1495440"/>
            <a:ext cx="710424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4718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WordArt 4"/>
          <p:cNvSpPr txBox="1"/>
          <p:nvPr/>
        </p:nvSpPr>
        <p:spPr>
          <a:xfrm>
            <a:off x="1724040" y="1457280"/>
            <a:ext cx="5695920" cy="395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NEGATIVE</a:t>
            </a:r>
            <a:endParaRPr b="0" lang="en-US" sz="66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ENTENCES</a:t>
            </a:r>
            <a:endParaRPr b="0" lang="en-US" sz="66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1120680" y="1638360"/>
            <a:ext cx="69040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1290600" y="1461960"/>
            <a:ext cx="656424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1095480" y="1457280"/>
            <a:ext cx="695484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1333440" y="1638360"/>
            <a:ext cx="64785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1766880" y="1519200"/>
            <a:ext cx="561024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1967040" y="1486080"/>
            <a:ext cx="52099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WordArt 4"/>
          <p:cNvSpPr txBox="1"/>
          <p:nvPr/>
        </p:nvSpPr>
        <p:spPr>
          <a:xfrm>
            <a:off x="1800360" y="2276640"/>
            <a:ext cx="6156360" cy="174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QUESTIONS</a:t>
            </a:r>
            <a:endParaRPr b="0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2009880" y="1619280"/>
            <a:ext cx="51242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206360" y="1776240"/>
            <a:ext cx="6732720" cy="33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1433520" y="2309760"/>
            <a:ext cx="627696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214200" y="1571760"/>
          <a:ext cx="8564760" cy="1081080"/>
        </p:xfrm>
        <a:graphic>
          <a:graphicData uri="http://schemas.openxmlformats.org/drawingml/2006/table">
            <a:tbl>
              <a:tblPr/>
              <a:tblGrid>
                <a:gridCol w="2376720"/>
                <a:gridCol w="3024000"/>
                <a:gridCol w="316404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70c0"/>
                          </a:solidFill>
                          <a:latin typeface="Arial"/>
                          <a:ea typeface="Times New Roman"/>
                        </a:rPr>
                        <a:t>Subject+ vb. in pa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70c0"/>
                          </a:solidFill>
                          <a:latin typeface="Arial"/>
                          <a:ea typeface="Times New Roman"/>
                        </a:rPr>
                        <a:t>Subject+didn’t + infini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70c0"/>
                          </a:solidFill>
                          <a:latin typeface="Arial"/>
                          <a:ea typeface="Times New Roman"/>
                        </a:rPr>
                        <a:t>Did+ subject+ infinitiv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295560" y="3147480"/>
            <a:ext cx="86446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walke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didn’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walk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Di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walk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he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wen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he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didn’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g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Di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sh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g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?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1565640" y="430200"/>
            <a:ext cx="604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SIMPLE PAST </a:t>
            </a:r>
            <a:r>
              <a:rPr b="0" lang="en-GB" sz="3600" spc="-1" strike="noStrike">
                <a:solidFill>
                  <a:srgbClr val="0070c0"/>
                </a:solidFill>
                <a:latin typeface="Arial"/>
                <a:ea typeface="Times New Roman"/>
              </a:rPr>
              <a:t>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60360" y="5144040"/>
            <a:ext cx="443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0c0"/>
                </a:solidFill>
                <a:latin typeface="Arial"/>
                <a:ea typeface="Times New Roman"/>
              </a:rPr>
              <a:t>Short answer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Yes, I did / No, I didn’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1209600" y="1476360"/>
            <a:ext cx="672624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187280" y="1457280"/>
            <a:ext cx="677088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1216080" y="1528920"/>
            <a:ext cx="6713640" cy="38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1135080" y="1500120"/>
            <a:ext cx="687528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1376280" y="1542960"/>
            <a:ext cx="639288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1442880" y="1533600"/>
            <a:ext cx="625824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47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4"/>
          <p:cNvSpPr txBox="1"/>
          <p:nvPr/>
        </p:nvSpPr>
        <p:spPr>
          <a:xfrm>
            <a:off x="1763640" y="1413000"/>
            <a:ext cx="5977080" cy="44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TI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EXPRES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1908000" y="2852640"/>
            <a:ext cx="6840720" cy="3646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250920" y="0"/>
            <a:ext cx="666900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1414440" y="1781280"/>
            <a:ext cx="631512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1332000" y="3267000"/>
            <a:ext cx="6446880" cy="3591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1116000" y="260280"/>
            <a:ext cx="652320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2789280" y="3390840"/>
            <a:ext cx="6354720" cy="3467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568800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76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4"/>
          <p:cNvSpPr txBox="1"/>
          <p:nvPr/>
        </p:nvSpPr>
        <p:spPr>
          <a:xfrm>
            <a:off x="1619280" y="1341360"/>
            <a:ext cx="6192720" cy="431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t wa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ll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2050920" y="907920"/>
            <a:ext cx="4934160" cy="2791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"/>
          <p:cNvPicPr/>
          <p:nvPr/>
        </p:nvPicPr>
        <p:blipFill>
          <a:blip r:embed="rId2"/>
          <a:stretch/>
        </p:blipFill>
        <p:spPr>
          <a:xfrm>
            <a:off x="2124000" y="3933720"/>
            <a:ext cx="4876920" cy="25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1332000" y="1773360"/>
            <a:ext cx="67993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1619280" y="1844640"/>
            <a:ext cx="683748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50000">
              <a:srgbClr val="76185e"/>
            </a:gs>
            <a:gs pos="100000">
              <a:srgbClr val="ff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4"/>
          <p:cNvSpPr txBox="1"/>
          <p:nvPr/>
        </p:nvSpPr>
        <p:spPr>
          <a:xfrm>
            <a:off x="2556000" y="692280"/>
            <a:ext cx="46800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REGULAR</a:t>
            </a:r>
            <a:endParaRPr b="0" lang="en-US" sz="6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VERBS</a:t>
            </a:r>
            <a:endParaRPr b="0" lang="en-US" sz="6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2200320" y="1676520"/>
            <a:ext cx="474336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2T10:33:03Z</dcterms:created>
  <dc:creator>mcc</dc:creator>
  <dc:description/>
  <dc:language>en-US</dc:language>
  <cp:lastModifiedBy>MCC</cp:lastModifiedBy>
  <dcterms:modified xsi:type="dcterms:W3CDTF">2011-03-09T08:59:09Z</dcterms:modified>
  <cp:revision>5</cp:revision>
  <dc:subject/>
  <dc:title>Diapositiva 1</dc:title>
</cp:coreProperties>
</file>